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2F30-8EEE-443D-A703-6300168C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652-A5E0-4E67-BD66-13D5581C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144-2144-4B25-A8A3-8EF965DDB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4FC5-AEC9-4AEF-9EDB-A452605B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23C77-65B9-4D8F-9A26-B72045D3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6352-E317-483E-9130-DA37833F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E65E-695E-4FA7-AD0E-EAD9634B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9FD1-301E-4374-9518-7B8A9F46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6A68-15A8-492B-BC98-C785130F0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798FD-6026-4C2D-819D-9C3D7CBE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264A-0CAD-4854-921E-526BF97E6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9CB9-F858-41A8-8173-75C149B5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041B-8728-4376-9AC3-136C2274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99782-8836-46C0-A341-173C2240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44B7F-3F86-4B93-AD4A-E1289EEA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BABD-907C-4FCB-B762-91BF25862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B716-E965-4447-AA89-6B001DFB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B20C6-DBB0-4092-9075-83373E5A9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CC531-1A51-40A9-8E40-D1946B6B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CFCD1-7965-42C4-A06B-DB41E3258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151E6-F989-473E-975C-9F540EAC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864C-0FF5-435D-9FF6-7CA0F72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98CF-9CC1-429C-A1DB-C1F5CDC1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F3F69-0CED-45C9-8574-EDC5B42A6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A5DCD-83BF-44EB-892F-7ECB728C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3D83B-0BA2-42DB-B20C-2D0AB144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0C635-4B27-405E-ACF7-FE88977A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463B-45DF-48FB-ABF0-8E78D1ED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8A53-4413-4134-9B43-8E18E5B0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4C9BA-EDDB-482B-A0EF-1607558BC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C21406-DC38-42C1-A7D9-E0492030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B5E6F-AEA2-4954-B774-A2D26C52C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2041D-56DC-4822-850C-814371F60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B58F-1139-4487-9DDC-67F453E0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AA072-4FD3-407B-99B1-751919E00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320A03-2E93-4139-8532-4C10E7FA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7A7C3-9ACA-4A09-899F-8202145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E31B-BED3-45D7-9B47-2C96DCFB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254A3-346F-424E-86C4-A8EBC6D0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5CCC1-412A-4AC0-BF00-9F6A84F4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4C3983-5EDF-4C29-9D33-54169BB0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535A6-FC46-4B70-A949-6D9CAD9FD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4A7B6-68D3-4ECE-97A3-5BFAACCE2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22482-E6A9-4D10-A86B-6DE74D84A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B705-CDE0-4591-8DF8-E054190E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E9CDB-6131-453A-8E30-2A1777AB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DAC6F-0FC9-44C0-8115-E2D4D6E3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F8E38-BF09-4C11-AC57-C72A0387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232FD-C16A-4851-95B5-ED21A9393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48B92-A374-4A29-9943-EF8F1DA1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33197-7714-434A-AE8A-B31EE933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83C86-C37B-478B-AE1B-A967C044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F1BAD-EDF8-451B-9157-CF7311A7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CDEB2-1358-4BB8-B450-76417C472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1D720-AA29-491B-960E-5A42BCFE4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578F-2AD8-4278-8A0E-24EBA203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F437B-889F-468F-84ED-413C7011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367722-A1C1-48A8-BC7A-59F42F3E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CB623-1E9B-4938-BDB8-4A752FA16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6F8AA-AE40-46B4-8BF5-5681DA5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B9CE6E-8016-4DDB-9B07-B9848AEE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058DC-4F08-4AAF-ADDC-2B61058C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60E1EC-A11B-48CD-B395-FA179A03F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DB17D-D617-4C40-83C6-72C1D591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580FA-D8E1-4AE2-B029-B74897E8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6F151-7647-412C-B631-1DF137E2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9070-0706-4790-A764-2D485D364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0B6C6-7D3F-4632-8AFF-0913D6777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E4E82-D70A-4BEC-8B13-3AC1591CB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64BEF-1B15-447C-A6D3-42782B32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E0E9C5-2C0F-4722-9A00-3E3CEE4D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A4874-0B17-48BB-B6D0-BF7A2DB1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E5012-3BDA-450A-AE7A-7BCBD911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C82E1-2618-40D0-8B0E-6B14363B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A4235-FBA6-4D04-89D6-13C1CADD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F616F-7A8C-456F-BE8B-A17ACD6E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8EAF6-72B0-470A-B2B3-FC7FE9E7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C07C-C3B4-4A01-B8BD-77A25134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7530A1-960B-4AE6-A8E1-F27BF69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CEB87A-BCBD-4BF1-9D68-7787506D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9AD36-D702-4101-A9FB-CE5C123C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5A771-DE88-4187-9D2C-454EDFDE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26B84-4EB9-441F-81AE-1A783F292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D7E-6299-4525-9F72-08C74534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F32B0-36C8-4D04-BEEF-1C60E93899F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660F-1BB2-46F2-A6AE-FAD8D6A62C1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F77A-31FD-4D8F-B847-9E7C31372DB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9A00-0C28-47A6-9610-8F3A43632C6D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672CD-8394-4002-B122-54EF5DB25E1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A99D5-1F80-4E37-A586-84A33A57E353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A3BF7-4EE6-4B8D-9C55-0B27D4EF7CCC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55560" y="1484280"/>
            <a:ext cx="77724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RESCAP-MED Capacity Development Workshop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Health Policy Evaluatio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Amman, Jordan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Candara"/>
              </a:rPr>
              <a:t>3-6 June 2013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55560" y="3933360"/>
            <a:ext cx="7772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37" name="Picture 5" descr="http://research.ncl.ac.uk/media/sites/researchwebsites/rescapmed/EUlogo.jpg"/>
          <p:cNvPicPr/>
          <p:nvPr/>
        </p:nvPicPr>
        <p:blipFill>
          <a:blip r:embed="rId1"/>
          <a:stretch/>
        </p:blipFill>
        <p:spPr>
          <a:xfrm>
            <a:off x="262080" y="244440"/>
            <a:ext cx="811080" cy="5302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http://research.ncl.ac.uk/media/sites/researchwebsites/rescapmed/FP7logo2.jpg"/>
          <p:cNvPicPr/>
          <p:nvPr/>
        </p:nvPicPr>
        <p:blipFill>
          <a:blip r:embed="rId2"/>
          <a:stretch/>
        </p:blipFill>
        <p:spPr>
          <a:xfrm>
            <a:off x="1073160" y="243000"/>
            <a:ext cx="695160" cy="530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" descr=""/>
          <p:cNvPicPr/>
          <p:nvPr/>
        </p:nvPicPr>
        <p:blipFill>
          <a:blip r:embed="rId3"/>
          <a:stretch/>
        </p:blipFill>
        <p:spPr>
          <a:xfrm>
            <a:off x="6732720" y="243000"/>
            <a:ext cx="2187360" cy="871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newcastle_master_col"/>
          <p:cNvPicPr/>
          <p:nvPr/>
        </p:nvPicPr>
        <p:blipFill>
          <a:blip r:embed="rId4"/>
          <a:stretch/>
        </p:blipFill>
        <p:spPr>
          <a:xfrm>
            <a:off x="365040" y="5732640"/>
            <a:ext cx="28069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basic concepts of health policy making and implementation proces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identify and analyse different stakeholders in policy making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health policy making in the globalizing world and the role of national and international players in the proces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understand the cultural aspects of health and health polic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To describe the health policy analysis framework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Understand the challenges of health policy implementation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Compare health policy situation between different developing countries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ndara"/>
              </a:rPr>
              <a:t>Learning objectives of the workshop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: Basic Concept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genda setting proces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keholder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1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st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globalizing world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ulturally competent health policy: Developing country contex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in the context of political crisi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Role of research in health policy making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2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n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Analysis Framework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ase Studies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Palestine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Syria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Health Policy Situation: Jord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Implementation: Experiences from Jordan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olicy brief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anel Discussion and Q &amp; A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rd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Group reading of selected health policy evaluation paper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Presentations of the group reading and Q&amp;A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losing remarks and Evaluation of the worksho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4</a:t>
            </a:r>
            <a:r>
              <a:rPr b="0" lang="en-GB" sz="3200" spc="-1" strike="noStrike" baseline="30000">
                <a:solidFill>
                  <a:srgbClr val="ffffff"/>
                </a:solidFill>
                <a:latin typeface="Candara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 Day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457200" y="242100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Shahaduz Zaman, 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otasem Hamdan, Palestine, Al-Quds University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bdullatif Husseini, Palestine, Birzeit Universit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Fouad Fouad, Syria, American University of Beirut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73e87"/>
                </a:solidFill>
                <a:latin typeface="Candara"/>
              </a:rPr>
              <a:t>Yousef Khader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, 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Musa Ajlouni, </a:t>
            </a:r>
            <a:r>
              <a:rPr b="0" lang="en-GB" sz="2000" spc="-1" strike="noStrike">
                <a:solidFill>
                  <a:srgbClr val="073e87"/>
                </a:solidFill>
                <a:latin typeface="Candara"/>
              </a:rPr>
              <a:t>Jordan, Jordan University of Science and Technology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Riyad Amin Okour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Jamal Abu Saif, Jordan, Ministry of Health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Facilitator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Start on time—End on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aintain a flexible, responsive schedule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nly one person talks at a time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y question is a good question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ell phones are turned off during session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ome group norm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Enjoy the workshop 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1T10:17:01Z</dcterms:created>
  <dc:creator>nsz4</dc:creator>
  <dc:description/>
  <dc:language>en-US</dc:language>
  <cp:lastModifiedBy>User</cp:lastModifiedBy>
  <dcterms:modified xsi:type="dcterms:W3CDTF">2013-05-31T23:41:13Z</dcterms:modified>
  <cp:revision>8</cp:revision>
  <dc:subject/>
  <dc:title>PowerPoint Presentation</dc:title>
</cp:coreProperties>
</file>